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BD545-7CB1-404F-9737-F1B94AE65187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00DCE-F8EE-4D68-B77E-0CC721AB1B3E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0D6-B025-44B1-BA5F-5ECA202A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25D-E5D8-4819-A3BF-7BAF63D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B2C-F503-4DC1-8952-28311090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22C-414E-4AE0-AFBD-4AF68E53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8A67-6A44-42A2-BB42-0A688989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CAA3-B3DF-450C-BC9A-97F9EB8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07A-AC87-4353-8FD5-9AA02A2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24D-85B6-414F-B5C5-D9E6A40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FEE4-75EF-4D8C-B9F6-9FD5FF1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E13A-98A1-4510-8F54-59DD245F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E16-082C-43FF-A8B6-4AF6324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18E-24BA-4524-983D-6916811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541C-BC06-46F3-BC85-DC24D3D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F963-03C9-484C-8704-A474AED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73C4-3732-4C3C-AE70-DF64C9B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B4E4-D00A-47A9-8FBD-372D7084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667-2502-48A4-9855-3A832566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34BB-3AED-40C6-B13E-BD33AF40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EA55-1D0A-4107-9546-16F40DB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4F0E-10FB-4CD3-B551-2E002E91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6698-3247-4CA1-8043-DDD0075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CBA3-740E-440F-9AA7-30ADB86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9FD-BEEC-4325-B264-7EEF521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50E0-2830-4974-854C-73D1BB6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F6C0-67A4-494C-AA99-8948233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D0C0-4DBF-488C-B703-8BA5232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31F3-4CA1-41DB-8B64-8F0A16D0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DA29-BD42-4F0F-9DAE-57663A2B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3D47-A2B5-4ABF-867D-9312B72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B411-3E03-4CA5-9823-E83ED9F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FF37-008C-416E-82BD-D471379D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2872-952B-4DDD-8EA0-C4DC227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B9EE-6379-4A96-AB46-2FFD1CD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718-DE73-4054-8C3B-79D8666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4A03-D920-4B76-ACEC-41FB369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ACE4-8CE0-41B3-AFB1-75D2E85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7F77-940B-4A63-AEA5-1F7FE3D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0B19-66A4-4424-817A-D31BC28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9117-E51B-43DE-A8D4-D1F1D3B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B378-69AE-4E00-A0B8-65761D9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8C43-1D7A-4551-9A0A-0C1A36E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BD73-D9EC-4962-A7CE-2BD9FDF9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345A-1463-4E3F-B1C1-784C27EA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69F4-9189-4495-8403-1E96BFE1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A65-E826-42D5-BEA6-703E33B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298E-3F24-4EF8-B3E4-6A95F3C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0470-7E59-4D78-B6C4-7FAF405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A751-C86E-41F1-891A-1D9AD16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53C7-478B-4181-8B10-EEE09DC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8D16-4113-4DAB-8313-864CA91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6BDC-DCC5-4FDE-877C-7D0F572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3DB5-3E34-4EF2-9D79-7B9FC3B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8704-4808-4103-B846-B68275A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131E-6F5C-4359-AA9D-759FE30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0809-3EA5-49CC-AB21-CC1ADA50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197-C8E7-432D-BD17-85476C9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5ADB-99A6-4A02-B620-066E1FD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F1B-02B1-4548-8853-BC80A2C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6D5-3493-4428-9191-85E5FA5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0B2-45E0-4EDB-B118-13365D3D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0F69E-3134-4A29-9781-63B7C200E611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2D93F-15C9-4193-AC84-36E411BBAAEE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Stačiakampis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Stačiakampis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iesioji jungtis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52831-FCD1-4D3D-8A14-A21429ADB983}" type="datetime">
              <a:rPr b="0" lang="lt-LT" sz="1000" spc="-1" strike="noStrike">
                <a:solidFill>
                  <a:srgbClr val="ffffff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128D4-D476-4257-B149-F3F5E2B8040A}" type="slidenum">
              <a:rPr b="0" lang="lt-L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249D9-E129-4E7E-971A-CEB23444207D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AE1CD-F26F-4633-B5CE-212B83AF5457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ačiakampis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ačiakampis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72D3A-4F1F-4F41-AE99-F79AA10D2968}" type="datetime">
              <a:rPr b="0" lang="lt-LT" sz="1000" spc="-1" strike="noStrike">
                <a:solidFill>
                  <a:srgbClr val="f4e7ed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1B54A-A105-40B2-8C90-0DA1331458B9}" type="slidenum">
              <a:rPr b="0" lang="lt-LT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74630-D656-4977-B693-845B7D36FB9C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1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9F158-D4A6-4D2F-911D-0FDB8990CEC6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rebuchet MS"/>
              </a:rPr>
              <a:t>Ar socialinėse medijose pateikiama teisinga informacij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773000"/>
            <a:ext cx="382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Tie, kas rašo komentarus, yra nepažįstami. Daugelis komentatorių – anonim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Komentatoriai būna šališki, kartais gauna pinigų už komentavimą užsakovo naud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1B154-61AA-4202-827B-98EA3D93B491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urinio vietos rezervavimo ženklas 4" descr=""/>
          <p:cNvPicPr/>
          <p:nvPr/>
        </p:nvPicPr>
        <p:blipFill>
          <a:blip r:embed="rId2"/>
          <a:stretch/>
        </p:blipFill>
        <p:spPr>
          <a:xfrm>
            <a:off x="4357800" y="1773360"/>
            <a:ext cx="31399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844280"/>
            <a:ext cx="72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cinga kalba labiau nei faktai įtikinamai formuoja visuomenės nuomonę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bilizuoja visuomenės grupe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ali padidinti ar sumažinti pasitikėjimą valstybe, asmenimis, organizacijomis, prekių ženklais ir t.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F4CD2-0D96-4DE2-A0AB-7828FE66B459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09480"/>
            <a:ext cx="7354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Trebuchet MS"/>
              </a:rPr>
              <a:t>Atkreipkite dėmesį į tai, kad dalis skaitytojų net nepaskaitę naujienos iš karto pradeda skaityti komentarus ir susidaro nuomonę apie problemą ne iš pačios naujienos, bet iš jos vertinimo</a:t>
            </a:r>
            <a:r>
              <a:rPr b="1" lang="lt-LT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ADC7A-4891-4E5E-BE9C-A4B3C8C8D9E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542880" y="-249120"/>
            <a:ext cx="7236000" cy="1139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24000" y="1255320"/>
            <a:ext cx="79200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rebuchet MS"/>
              </a:rPr>
              <a:t>Internetinis turinys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 kurį žmonės sukūrė naudodamiesi lengvai prieinamomis technologijomis, leidžiančiomis paprastai sukurti ir paskleisti informacij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Nezinau.lt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ocialinių tinklų svetainės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Faceboo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ikro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Twitt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aizdo dalin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outub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uotraukų dali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Instagra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Wiki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Wikipedi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lausimų ir atsakymų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ahoo Answer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irtualūs pasaul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Second Lif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itos interaktyvios virtualaus bendravimo priemonė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45ECB-5019-4640-BE23-28467ADF8C5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24000" y="1937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ų skirtumai yra ši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įsitraukimo laipsn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rieinamumo lyg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vaidmenų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auj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urinio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arpusavio sąsaj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ndruomenišk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asiekiamum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kaidrės numerio vietos rezervavimo ženklas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E0885-1452-425A-8F50-B4328416AEB9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92420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Žinomi asmenys savo įrašuose pateikia įdomių minčių publikacijo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ficialūs, patikimi šaltiniai ypatingų situacijų atveju dažnai  informaciją socialiniuose tinkluose pateikia greičiau nei žurnalistams, o šie ją karto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t kurio vartotojo įdomi naujiena, pastebėta žurnalisto, gali tapti žiniasklaidos objekt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212DB-9274-464E-9A0B-41B18B432810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483920"/>
            <a:ext cx="75708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Taigi Jūsų paskelbta naujiena vieną dieną gali tapti didelio interneto portalo teksto turiniu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Trebuchet MS"/>
              </a:rPr>
              <a:t>Tačiau ar tikrai norite, kad eilinį Jūsų įrašą „Facebooke“ matytų visa Lietuva?.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C73BA-C7C2-4B10-9B97-47AC7A462DA5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20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Įstatymai, numatantys, kokia informacija neskelbtina žinia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aidos priemonėse, taikomi ir socialinėms medijom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skelbiama informacija taip pat aktyviai tikrinama visuomenės, pedagogų, darbdavių, vadybininkų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eigu  informacija net nepažeidžia įstatymų, verta pagalvoti, ar tikrai norima, kad žmonės apie tai žinotų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16E64-6FDF-4BD5-A5B7-59F8889B13AD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004240" cy="1629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915920"/>
            <a:ext cx="72388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a yra teisinga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oficialūs šaltinia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vieši asmenys, kurių reputacija lemia jų karjerą, statusą visuomenėje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meniškai informuoja draugai, kuriais pasitik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A78C5-2F66-481A-8F10-8C987939C14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93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teisingumu reikėtų suabejoti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tikrojo savo vardo ir pavardė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savo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uotrauk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ateikia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nuorod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į neaiškaus pobūdžio puslapiu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iti abejoja dėl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asmens -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šaltinio patikimumo socialiniuose tinkluose ir net viešojoje erdvėj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6FF33-C7A2-4DBB-A44F-31BB7905C120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840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ikės melagėlio“ efekta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augybę kartų pamelavus žmonės daugiau nebetikės, o tai gal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turėti skaudžių pasekmių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visi greitai sužino, kas yra melagi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žmonės gali keistis nuomonėmi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ir komentarai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Darbdaviai tikrina socialines medijas, todėl darbuotojų paviešintas įstatymų ir etikos normų neatitinkantis turinys gali užkirsti kelią jų karjera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CE19B-9972-4ACF-9E77-BF468E9B7C3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1:01:45Z</dcterms:created>
  <dc:creator>Egidijus Jurgelionis</dc:creator>
  <dc:description/>
  <dc:language>en-US</dc:language>
  <cp:lastModifiedBy>Gražina Jurgutavičiūtė</cp:lastModifiedBy>
  <dcterms:modified xsi:type="dcterms:W3CDTF">2015-12-30T14:42:32Z</dcterms:modified>
  <cp:revision>51</cp:revision>
  <dc:subject/>
  <dc:title>Žiniasklaida ir socialinės medijos</dc:title>
</cp:coreProperties>
</file>